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dfffff"/>
              </a:gs>
              <a:gs pos="100000">
                <a:srgbClr val="00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ftr" idx="1"/>
          </p:nvPr>
        </p:nvSpPr>
        <p:spPr>
          <a:xfrm>
            <a:off x="7010280" y="65530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r>
              <a:rPr b="0" lang="fr-FR" sz="1400" spc="-1" strike="noStrike">
                <a:solidFill>
                  <a:srgbClr val="000000"/>
                </a:solidFill>
                <a:latin typeface="Times New Roman"/>
              </a:rPr>
              <a:t>jb.girard@free.fr</a:t>
            </a:r>
            <a:endParaRPr b="0" lang="en-US" sz="1400" spc="-1" strike="noStrike">
              <a:solidFill>
                <a:srgbClr val="000000"/>
              </a:solidFill>
              <a:latin typeface="Times New Roman"/>
            </a:endParaRPr>
          </a:p>
        </p:txBody>
      </p:sp>
      <p:sp>
        <p:nvSpPr>
          <p:cNvPr id="2"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
          <p:cNvSpPr/>
          <p:nvPr/>
        </p:nvSpPr>
        <p:spPr>
          <a:xfrm>
            <a:off x="1127520" y="1854360"/>
            <a:ext cx="6868080" cy="2897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utter contre le réchauffement de la planète</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n autre angle d’attaque</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cques Girar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rri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492120" y="609480"/>
            <a:ext cx="842328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Comment mesurer l’efficacité du dispositif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icultés</a:t>
            </a:r>
            <a:endParaRPr b="0" lang="en-US" sz="24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poser d’un capteur de flux solaire (cellule photovoltaïque) au delà de l’atmosphère</a:t>
            </a:r>
            <a:endParaRPr b="0" lang="en-US" sz="24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Évaluer l’ouverture angulaire due à la diffraction de l’atmosphère</a:t>
            </a:r>
            <a:endParaRPr b="0" lang="en-US" sz="24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criminer le flux venant d’une zone particulière</a:t>
            </a:r>
            <a:endParaRPr b="0" lang="en-US" sz="24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écision de pointage</a:t>
            </a:r>
            <a:endParaRPr b="0" lang="en-US" sz="24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mps de mesure</a:t>
            </a:r>
            <a:endParaRPr b="0" lang="en-US" sz="24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rse apparente du soleil sur la Terre Est</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Ouest</a:t>
            </a:r>
            <a:endParaRPr b="0" lang="en-US" sz="24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rse apparente du flux réfléchi: Ouest</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Est</a:t>
            </a:r>
            <a:endParaRPr b="0" lang="en-US" sz="24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rbite idéale pour « suivre » le rayon réfléchi.</a:t>
            </a:r>
            <a:endParaRPr b="0" lang="en-US" sz="24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492120" y="609480"/>
            <a:ext cx="842328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Comment mesurer l’efficacité du dispositif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ification du problèm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 on n’attend pas que les glaces aient fondu on dispose de dispositifs de réflexion équivalents, naturels qui sont les pôles </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place un capteur (cellule photovoltaïque) sur un satellite polaire et défilant à une orbite basse de l’ordre de 200km</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 temps de survol du pôle est totalement compatible de mesures.</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rs du survol du pôle l’angle solide sous lequel on voit la surface blanche est proche de 2</a:t>
            </a:r>
            <a:r>
              <a:rPr b="0" lang="en-US" sz="2400" spc="-1" strike="noStrike">
                <a:solidFill>
                  <a:srgbClr val="000000"/>
                </a:solidFill>
                <a:latin typeface="Times New Roman"/>
                <a:ea typeface="Times New Roman"/>
              </a:rPr>
              <a:t>π</a:t>
            </a:r>
            <a:r>
              <a:rPr b="0" lang="en-US" sz="2400" spc="-1" strike="noStrike">
                <a:solidFill>
                  <a:srgbClr val="000000"/>
                </a:solidFill>
                <a:latin typeface="Times New Roman"/>
              </a:rPr>
              <a:t> stéradian. Aucune difficulté de pointage</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s besoin de suivre le rayon réfléchi puisque la surface de réflexion est suffisamment grand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492120" y="609480"/>
            <a:ext cx="842328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Corrections à apport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s éléments suivants doivent être pris en compte pour évaluer l’efficacité du dispositif à partir des mesures faites aux pôl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Times New Roman"/>
              </a:rPr>
              <a:t>Angle d’incidence des rayons solaires sur la Terre</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 pôle cet angle d’élévation est faible.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l’équateur il est proche de 90 °.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t angle influe en fonction inverse de son sinu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a profondeur d’atmosphère traversée.</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e flux d’énergie reçu par m</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au so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Times New Roman"/>
              </a:rPr>
              <a:t>Teneur en GES sur le pôle / Teneur en GES de la zone cib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380880" y="609480"/>
            <a:ext cx="865188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Ordres de grandeu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considère qu’une surface d’environ 60 000 Km </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de glace disparaît du pôle nord tous les a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Hypothès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l’angle d’incidence moyen </a:t>
            </a:r>
            <a:r>
              <a:rPr b="0" lang="en-US" sz="2400" spc="-1" strike="noStrike">
                <a:solidFill>
                  <a:srgbClr val="000000"/>
                </a:solidFill>
                <a:latin typeface="Symbol"/>
                <a:ea typeface="Symbol"/>
              </a:rPr>
              <a:t></a:t>
            </a:r>
            <a:r>
              <a:rPr b="0" lang="en-US" sz="2400" spc="-1" strike="noStrike">
                <a:solidFill>
                  <a:srgbClr val="000000"/>
                </a:solidFill>
                <a:latin typeface="Times New Roman"/>
              </a:rPr>
              <a:t> au pôle de 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le taux de réflexion de la glace est équivalent à celui du dispositi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le taux de GES est identique au pôle et au niveau du dispositi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 dispositif placé à l’équateur sera en moyenne 1/sin(</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baseline="30000">
                <a:solidFill>
                  <a:srgbClr val="000000"/>
                </a:solidFill>
                <a:latin typeface="Times New Roman"/>
              </a:rPr>
              <a:t>2 </a:t>
            </a:r>
            <a:r>
              <a:rPr b="0" lang="en-US" sz="2400" spc="-1" strike="noStrike">
                <a:solidFill>
                  <a:srgbClr val="000000"/>
                </a:solidFill>
                <a:latin typeface="Times New Roman"/>
              </a:rPr>
              <a:t>plus efficace que celui au pôle. Soit un facteur 13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0 000 km </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au pôle seraient donc compensés par 455 km </a:t>
            </a:r>
            <a:r>
              <a:rPr b="0" lang="en-US" sz="2400" spc="-1" strike="noStrike" baseline="30000">
                <a:solidFill>
                  <a:srgbClr val="000000"/>
                </a:solidFill>
                <a:latin typeface="Times New Roman"/>
              </a:rPr>
              <a:t>2 </a:t>
            </a:r>
            <a:r>
              <a:rPr b="0" lang="en-US" sz="2400" spc="-1" strike="noStrike">
                <a:solidFill>
                  <a:srgbClr val="000000"/>
                </a:solidFill>
                <a:latin typeface="Times New Roman"/>
              </a:rPr>
              <a:t>à l’équateur. Cela représente un carré de 21 km de côté ce qui reste dans le domaine du réalisable même si ce n’est pas en un a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304920" y="304920"/>
            <a:ext cx="8651880" cy="631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Objectio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s remarques suivantes ont été portées par des scientifiques ou des ONG sur ce dispositif. A chaque fois on essaie d’y répondre le plus honnêtement possib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Ne risque-t-on pas en s’attaquant aux conséquences de minimiser la portée des messages concernant les causes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e pense que ces messages seront renforcés car on apporte un espoir face au discours un peu fataliste qui indique que de toute façon on est allé trop loin et que même en arrêtant aujourd’hui toute émission (ce qui est tout à fait impossible) le climat serait tout de même perturbé pour nos enfants et petits enfant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plus aucune théorie ne montre que s’attaquer aux causes d’un problème nuit à sa résolution par ailleur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e ré-insiste cependant sur l’absolue nécessité de lutter aussi contre les causes du réchauffe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492120" y="609480"/>
            <a:ext cx="842328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Times New Roman"/>
              </a:rPr>
              <a:t>On ne joue pas aux apprentis sorciers avec la machine climatiq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Plusieurs poin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1/ Le prix Nobel </a:t>
            </a:r>
            <a:r>
              <a:rPr b="0" lang="fr-FR" sz="2400" spc="-1" strike="noStrike">
                <a:solidFill>
                  <a:srgbClr val="000000"/>
                </a:solidFill>
                <a:latin typeface="Courier New"/>
              </a:rPr>
              <a:t>Paul Crutzen propose</a:t>
            </a:r>
            <a:r>
              <a:rPr b="0" lang="fr-FR" sz="2400" spc="-1" strike="noStrike">
                <a:solidFill>
                  <a:srgbClr val="000000"/>
                </a:solidFill>
                <a:latin typeface="Times New Roman"/>
              </a:rPr>
              <a:t> d’envoyer des quantités phénoménales de soufre dans l’atmosphère pour la rendre plus opaque. D’autres évoquent même la possibilité de dévier l’axe de rotation de la Terre… Le côté irréversible de tels dispositifs donne effectivement des frissons dans le dos! </a:t>
            </a:r>
            <a:r>
              <a:rPr b="0" lang="fr-FR" sz="2400" spc="-1" strike="noStrike">
                <a:solidFill>
                  <a:srgbClr val="000000"/>
                </a:solidFill>
                <a:latin typeface="Times New Roman"/>
                <a:ea typeface="Arial Unicode MS"/>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C’est aussi une manière de lutter contre le réchauffement </a:t>
            </a: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Le dispositif de réflexion ne souf«f»re pas de ce caractère irréversib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2/ Il est probable que le renvoi vers l’espace de quantités importantes d’énergie puisse localement perturber la climatologie. D’où l’importance de répartir les dispositifs de réflexion sur la surface du globe afin que statistiquement ces perturbations locales s’annulent sur un plan macroscopique.</a:t>
            </a:r>
            <a:r>
              <a:rPr b="0" lang="fr-FR"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492120" y="609480"/>
            <a:ext cx="842328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 /La mise en place d’un tel dispositif ne se fera pas en un jour. Après validation théorique et par simulation numérique, une première campagne d’essais pourrait être évaluée surtout quant à l’apparition d’effets nuisibles. Attention cependant à ne pas leur imputer toute catastrophe naturel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Au fur et à mesure de la concentration de GES dans l’atmosphère le rendement du dispositif dimin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st justement la raison pour laquelle il convient de continuer à travailler sur les causes d’augmentation de G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Et si ça ne marche pa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h bien on cherche autre chose ! Et on n’attend pas d’avoir trop chaud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457200" y="152280"/>
            <a:ext cx="8423280" cy="692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Le bilan environnemental est-il positif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 point est primordial. Il ne s’agit pas de tout miser sur un aspect au détriment des autres. L’impact de la fabrication de surfaces réfléchissantes en nombre ainsi que la coloration en blanc de grandes surfaces doit être évalué globalement. Production, transport, installation, maintenance, recyclag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Que faire de 1000 km</a:t>
            </a:r>
            <a:r>
              <a:rPr b="0" lang="en-US" sz="1600" spc="-1" strike="noStrike" baseline="30000">
                <a:solidFill>
                  <a:srgbClr val="000000"/>
                </a:solidFill>
                <a:latin typeface="Times New Roman"/>
              </a:rPr>
              <a:t>2 </a:t>
            </a:r>
            <a:r>
              <a:rPr b="0" lang="en-US" sz="1600" spc="-1" strike="noStrike">
                <a:solidFill>
                  <a:srgbClr val="000000"/>
                </a:solidFill>
                <a:latin typeface="Times New Roman"/>
              </a:rPr>
              <a:t>de couverture de survie à recycl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 le dispositif a trop bien marché, ils nous serviront à nous réchauffer</a:t>
            </a:r>
            <a:r>
              <a:rPr b="0" lang="en-US" sz="2400" spc="-1" strike="noStrike">
                <a:solidFill>
                  <a:srgbClr val="000000"/>
                </a:solidFill>
                <a:latin typeface="Times New Roman"/>
              </a:rPr>
              <a:t>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La réflexion ne marche que le jou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i, mais si les dispositifs sont bien répartis sur la planète, il y aura sans cesse réflexion. Du plus  la réflexion est la plus utile lorsqu’on reçoit l’énergie. Le bilan énergétique nocturne étant déjà négati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La réflexion ne marche pas sous les nuag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i, mais les nuages jouent déjà ce rôle de réflexion lumineuse. Il suffit d’avoir survolé une mer de nuages pour constater l’importance de la luminosité renvoyé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533520" y="4952880"/>
            <a:ext cx="822960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92120" y="609480"/>
            <a:ext cx="842328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Conclusion «  réfléchissons vit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ême si les surfaces en jeu sont négligeables par rapport à la surface illuminée de la Terre, il faut faire un bilan et voir si l’ordre de grandeur n’est pas justement celui du surplus énergétique dû à l’effet de serre contre lequel on veut combatt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e indiqué auparavant ce procédé ne tend pas à s’attaquer aux causes du réchauffement mais à ses conséquences. Le travail sur les causes restant primordi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 dispositif peut permettre d’en atténuer un peu les effe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insi la conclusion qui indique que même si on arrêtait les émissions, la Terre se réchaufferait, peut être nuancée car on raisonne toujours à apport équivalent d’énergie en provenance du solei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492120" y="609480"/>
            <a:ext cx="842328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Times New Roman"/>
              </a:rPr>
              <a:t>Post Scriptu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Je ne suis ni miroitier ni marchand de peinture ! </a:t>
            </a:r>
            <a:r>
              <a:rPr b="0" lang="fr-FR" sz="3200" spc="-1" strike="noStrike">
                <a:solidFill>
                  <a:srgbClr val="ff3300"/>
                </a:solidFill>
                <a:latin typeface="Wingdings"/>
                <a:ea typeface="Wingdings"/>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09480" y="1143000"/>
            <a:ext cx="8016840" cy="48488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ur vaincre le problème de réchauffement de la planète on doit</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coup sûr </a:t>
            </a:r>
            <a:r>
              <a:rPr b="1" lang="en-US" sz="2400" spc="-1" strike="noStrike">
                <a:solidFill>
                  <a:srgbClr val="ff3300"/>
                </a:solidFill>
                <a:latin typeface="Times New Roman"/>
              </a:rPr>
              <a:t>s’attaquer aux causes</a:t>
            </a:r>
            <a:r>
              <a:rPr b="1" lang="en-US" sz="2400" spc="-1" strike="noStrike">
                <a:solidFill>
                  <a:srgbClr val="000000"/>
                </a:solidFill>
                <a:latin typeface="Times New Roman"/>
              </a:rPr>
              <a:t> que sont la pollution et la production de gaz à effet de serre. </a:t>
            </a:r>
            <a:br>
              <a:rPr sz="2400"/>
            </a:br>
            <a:r>
              <a:rPr b="1" lang="en-US" sz="2400" spc="-1" strike="noStrike">
                <a:solidFill>
                  <a:srgbClr val="000000"/>
                </a:solidFill>
                <a:latin typeface="Times New Roman"/>
              </a:rPr>
              <a:t>Ce domaine me paraît être l’unique angle d’attaque actuel au niveau scientifique et médiatique.</a:t>
            </a: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is également en </a:t>
            </a:r>
            <a:r>
              <a:rPr b="1" lang="en-US" sz="2400" spc="-1" strike="noStrike">
                <a:solidFill>
                  <a:srgbClr val="ff3300"/>
                </a:solidFill>
                <a:latin typeface="Times New Roman"/>
              </a:rPr>
              <a:t>diminuer les conséquences</a:t>
            </a:r>
            <a:r>
              <a:rPr b="1" lang="en-US" sz="2400" spc="-1" strike="noStrike">
                <a:solidFill>
                  <a:srgbClr val="000000"/>
                </a:solidFill>
                <a:latin typeface="Times New Roman"/>
              </a:rPr>
              <a:t> par d’autres procédés afin de limiter les effets irréversibles qui commencent à apparaître.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C’est sur cet angle que la méthode proposée ici se focali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380880" y="1143000"/>
            <a:ext cx="8016840" cy="37515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e principe exposé va consister à augmenter la part d’énergie solaire directement renvoyée vers l’espace, et donc de diminuer la part qui entre dans le processus des échanges thermiques, moteurs de la machine climatique.</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Un bilan énergétique montre que la part renvoyée directement est en moyenne de l’ordre de 30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a méthode proposée consiste à augmenter cette part pour atteindre environ 75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533520" y="380880"/>
            <a:ext cx="83055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Times New Roman"/>
              </a:rPr>
              <a:t>Const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Puissance du rayonnement solaire sur la Terr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ff3300"/>
                </a:solidFill>
                <a:latin typeface="Times New Roman"/>
              </a:rPr>
              <a:t>(Le schéma ci dessous est issu de l’article de Bruno Voituriez ‘</a:t>
            </a:r>
            <a:r>
              <a:rPr b="0" i="1" lang="fr-FR" sz="1800" spc="-1" strike="noStrike" u="sng">
                <a:solidFill>
                  <a:srgbClr val="ff3300"/>
                </a:solidFill>
                <a:uFillTx/>
                <a:latin typeface="Times New Roman"/>
              </a:rPr>
              <a:t>Le Gulf Stream peut-il s’arrêter’</a:t>
            </a:r>
            <a:r>
              <a:rPr b="0" i="1" lang="fr-FR" sz="1800" spc="-1" strike="noStrike">
                <a:solidFill>
                  <a:srgbClr val="ff33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44" name="gulf_02b" descr=""/>
          <p:cNvPicPr/>
          <p:nvPr/>
        </p:nvPicPr>
        <p:blipFill>
          <a:blip r:embed="rId1"/>
          <a:stretch/>
        </p:blipFill>
        <p:spPr>
          <a:xfrm>
            <a:off x="1905120" y="2073240"/>
            <a:ext cx="4952880" cy="2879640"/>
          </a:xfrm>
          <a:prstGeom prst="rect">
            <a:avLst/>
          </a:prstGeom>
          <a:ln w="0">
            <a:noFill/>
          </a:ln>
        </p:spPr>
      </p:pic>
      <p:sp>
        <p:nvSpPr>
          <p:cNvPr id="45" name=""/>
          <p:cNvSpPr/>
          <p:nvPr/>
        </p:nvSpPr>
        <p:spPr>
          <a:xfrm>
            <a:off x="670680" y="5067360"/>
            <a:ext cx="8399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42 W/m</a:t>
            </a:r>
            <a:r>
              <a:rPr b="1" lang="en-US" sz="1800" spc="-1" strike="noStrike" baseline="30000">
                <a:solidFill>
                  <a:srgbClr val="000000"/>
                </a:solidFill>
                <a:latin typeface="Times New Roman"/>
              </a:rPr>
              <a:t>2</a:t>
            </a:r>
            <a:r>
              <a:rPr b="1" lang="en-US" sz="1800" spc="-1" strike="noStrike">
                <a:solidFill>
                  <a:srgbClr val="000000"/>
                </a:solidFill>
                <a:latin typeface="Times New Roman"/>
              </a:rPr>
              <a:t> reçu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7 W/m</a:t>
            </a:r>
            <a:r>
              <a:rPr b="1" lang="en-US" sz="1800" spc="-1" strike="noStrike" baseline="30000">
                <a:solidFill>
                  <a:srgbClr val="000000"/>
                </a:solidFill>
                <a:latin typeface="Times New Roman"/>
              </a:rPr>
              <a:t>2</a:t>
            </a:r>
            <a:r>
              <a:rPr b="1" lang="en-US" sz="1800" spc="-1" strike="noStrike">
                <a:solidFill>
                  <a:srgbClr val="000000"/>
                </a:solidFill>
                <a:latin typeface="Times New Roman"/>
              </a:rPr>
              <a:t> sont perdus pour le système et ne rentrent pas dans la machine climatiq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98 W/m</a:t>
            </a:r>
            <a:r>
              <a:rPr b="1" lang="en-US" sz="1800" spc="-1" strike="noStrike" baseline="30000">
                <a:solidFill>
                  <a:srgbClr val="000000"/>
                </a:solidFill>
                <a:latin typeface="Times New Roman"/>
              </a:rPr>
              <a:t>2</a:t>
            </a:r>
            <a:r>
              <a:rPr b="1" lang="en-US" sz="1800" spc="-1" strike="noStrike">
                <a:solidFill>
                  <a:srgbClr val="000000"/>
                </a:solidFill>
                <a:latin typeface="Times New Roman"/>
              </a:rPr>
              <a:t> </a:t>
            </a:r>
            <a:r>
              <a:rPr b="1" lang="en-US" sz="1800" spc="-1" strike="noStrike">
                <a:solidFill>
                  <a:srgbClr val="ff3300"/>
                </a:solidFill>
                <a:latin typeface="Times New Roman"/>
              </a:rPr>
              <a:t>arrivent au sol</a:t>
            </a:r>
            <a:r>
              <a:rPr b="1" lang="en-US" sz="1800" spc="-1" strike="noStrike">
                <a:solidFill>
                  <a:srgbClr val="000000"/>
                </a:solidFill>
                <a:latin typeface="Times New Roman"/>
              </a:rPr>
              <a:t> dont uniquement 30 sont renvoyés directemen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228600" y="380880"/>
            <a:ext cx="8534520" cy="6715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Times New Roman"/>
              </a:rPr>
              <a:t>Idée:</a:t>
            </a:r>
            <a:r>
              <a:rPr b="0" lang="fr-FR"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utter contre le réchauffement en augmentant la part d’énergie directement renvoyée dans l’espa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upposons que sur 1 m</a:t>
            </a:r>
            <a:r>
              <a:rPr b="0" lang="fr-FR" sz="2400" spc="-1" strike="noStrike" baseline="30000">
                <a:solidFill>
                  <a:srgbClr val="000000"/>
                </a:solidFill>
                <a:latin typeface="Times New Roman"/>
              </a:rPr>
              <a:t>2</a:t>
            </a:r>
            <a:r>
              <a:rPr b="0" lang="fr-FR" sz="2400" spc="-1" strike="noStrike">
                <a:solidFill>
                  <a:srgbClr val="000000"/>
                </a:solidFill>
                <a:latin typeface="Times New Roman"/>
              </a:rPr>
              <a:t> </a:t>
            </a:r>
            <a:r>
              <a:rPr b="1" lang="fr-FR" sz="2400" spc="-1" strike="noStrike">
                <a:solidFill>
                  <a:srgbClr val="000000"/>
                </a:solidFill>
                <a:latin typeface="Times New Roman"/>
              </a:rPr>
              <a:t>au sol</a:t>
            </a:r>
            <a:r>
              <a:rPr b="0" lang="fr-FR" sz="2400" spc="-1" strike="noStrike">
                <a:solidFill>
                  <a:srgbClr val="000000"/>
                </a:solidFill>
                <a:latin typeface="Times New Roman"/>
              </a:rPr>
              <a:t> on soit capable d’augmenter le taux de réflexion à 95%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taux obtenu avec une surface typ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couverture de survie ou miroi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e nouveau bilan es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198 W/m2 arrivent au sol dont 188 sont renvoyés </a:t>
            </a:r>
            <a:r>
              <a:rPr b="0" lang="fr-FR" sz="1400" spc="-1" strike="noStrike">
                <a:solidFill>
                  <a:srgbClr val="000000"/>
                </a:solidFill>
                <a:latin typeface="Times New Roman"/>
              </a:rPr>
              <a:t>(au lieu des 30 précédemmen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Times New Roman"/>
              </a:rPr>
              <a:t>Soit un gain net de 158 W au m</a:t>
            </a:r>
            <a:r>
              <a:rPr b="0" lang="fr-FR" sz="2400" spc="-1" strike="noStrike" baseline="30000">
                <a:solidFill>
                  <a:srgbClr val="ff3300"/>
                </a:solidFill>
                <a:latin typeface="Times New Roman"/>
              </a:rPr>
              <a:t>2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3300"/>
                </a:solidFill>
                <a:latin typeface="Times New Roman"/>
              </a:rPr>
              <a:t>(à affiner car une part d’environ 15% serait probablement à nouveau absorbée par l’atmosphère)</a:t>
            </a:r>
            <a:r>
              <a:rPr b="0" lang="fr-FR" sz="2400" spc="-1" strike="noStrike">
                <a:solidFill>
                  <a:srgbClr val="ff3300"/>
                </a:solidFill>
                <a:latin typeface="Times New Roman"/>
              </a:rPr>
              <a:t> </a:t>
            </a:r>
            <a:endParaRPr b="0" lang="en-US" sz="2400" spc="-1" strike="noStrike">
              <a:solidFill>
                <a:srgbClr val="000000"/>
              </a:solidFill>
              <a:latin typeface="Times New Roman"/>
            </a:endParaRPr>
          </a:p>
        </p:txBody>
      </p:sp>
      <p:pic>
        <p:nvPicPr>
          <p:cNvPr id="47" name="gulf_02b" descr=""/>
          <p:cNvPicPr/>
          <p:nvPr/>
        </p:nvPicPr>
        <p:blipFill>
          <a:blip r:embed="rId1"/>
          <a:stretch/>
        </p:blipFill>
        <p:spPr>
          <a:xfrm>
            <a:off x="3581280" y="2438280"/>
            <a:ext cx="5257800" cy="3056040"/>
          </a:xfrm>
          <a:prstGeom prst="rect">
            <a:avLst/>
          </a:prstGeom>
          <a:ln w="0">
            <a:noFill/>
          </a:ln>
        </p:spPr>
      </p:pic>
      <p:sp>
        <p:nvSpPr>
          <p:cNvPr id="48" name=""/>
          <p:cNvSpPr/>
          <p:nvPr/>
        </p:nvSpPr>
        <p:spPr>
          <a:xfrm flipH="1" flipV="1">
            <a:off x="3930480" y="3443400"/>
            <a:ext cx="457200" cy="1676160"/>
          </a:xfrm>
          <a:prstGeom prst="line">
            <a:avLst/>
          </a:prstGeom>
          <a:ln w="507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3583080" y="420516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188</a:t>
            </a:r>
            <a:endParaRPr b="0" lang="en-US" sz="2400" spc="-1" strike="noStrike">
              <a:solidFill>
                <a:srgbClr val="000000"/>
              </a:solidFill>
              <a:latin typeface="Times New Roman"/>
            </a:endParaRPr>
          </a:p>
        </p:txBody>
      </p:sp>
      <p:sp>
        <p:nvSpPr>
          <p:cNvPr id="50" name=""/>
          <p:cNvSpPr/>
          <p:nvPr/>
        </p:nvSpPr>
        <p:spPr>
          <a:xfrm>
            <a:off x="4877280" y="4876920"/>
            <a:ext cx="36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Times New Roman"/>
              </a:rPr>
              <a:t>10</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04920" y="609480"/>
            <a:ext cx="8651880" cy="469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Times New Roman"/>
              </a:rPr>
              <a:t>Bilan énergétique </a:t>
            </a:r>
            <a:r>
              <a:rPr b="0" lang="fr-FR" sz="2400" spc="-1" strike="noStrike" u="sng">
                <a:solidFill>
                  <a:srgbClr val="ff3300"/>
                </a:solidFill>
                <a:uFillTx/>
                <a:latin typeface="Times New Roman"/>
              </a:rPr>
              <a:t>sur une journée</a:t>
            </a:r>
            <a:r>
              <a:rPr b="0" lang="fr-FR" sz="2400" spc="-1" strike="noStrike">
                <a:solidFill>
                  <a:srgbClr val="ff3300"/>
                </a:solidFill>
                <a:latin typeface="Times New Roman"/>
              </a:rPr>
              <a:t> (12 heures d’illumin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Pour 1 m</a:t>
            </a:r>
            <a:r>
              <a:rPr b="1" lang="fr-FR" sz="2400" spc="-1" strike="noStrike" baseline="30000">
                <a:solidFill>
                  <a:srgbClr val="000000"/>
                </a:solidFill>
                <a:latin typeface="Times New Roman"/>
              </a:rPr>
              <a:t>2</a:t>
            </a:r>
            <a:r>
              <a:rPr b="0" lang="fr-FR" sz="2400" spc="-1" strike="noStrike">
                <a:solidFill>
                  <a:srgbClr val="000000"/>
                </a:solidFill>
                <a:latin typeface="Times New Roman"/>
              </a:rPr>
              <a:t> on a un gain net de 0.158kW*12 h soit environ </a:t>
            </a:r>
            <a:r>
              <a:rPr b="1" lang="fr-FR" sz="2400" spc="-1" strike="noStrike">
                <a:solidFill>
                  <a:srgbClr val="000000"/>
                </a:solidFill>
                <a:latin typeface="Times New Roman"/>
              </a:rPr>
              <a:t>1.9 kW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Times New Roman"/>
              </a:rPr>
              <a:t>(environ le tiers de la consommation électrique d’une personne sur cette périod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Pour 1 km</a:t>
            </a:r>
            <a:r>
              <a:rPr b="1" lang="fr-FR" sz="2400" spc="-1" strike="noStrike" baseline="30000">
                <a:solidFill>
                  <a:srgbClr val="000000"/>
                </a:solidFill>
                <a:latin typeface="Times New Roman"/>
              </a:rPr>
              <a:t>2</a:t>
            </a:r>
            <a:r>
              <a:rPr b="0" lang="fr-FR" sz="2400" spc="-1" strike="noStrike">
                <a:solidFill>
                  <a:srgbClr val="000000"/>
                </a:solidFill>
                <a:latin typeface="Times New Roman"/>
              </a:rPr>
              <a:t> on a un gain net de </a:t>
            </a:r>
            <a:r>
              <a:rPr b="1" lang="fr-FR" sz="2400" spc="-1" strike="noStrike">
                <a:solidFill>
                  <a:srgbClr val="000000"/>
                </a:solidFill>
                <a:latin typeface="Times New Roman"/>
              </a:rPr>
              <a:t>2 GW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i on considère 1m² pour chacun des 5 milliards d’habitants on obtient: 10 Tera Watt h soit 10</a:t>
            </a:r>
            <a:r>
              <a:rPr b="0" lang="fr-FR" sz="2400" spc="-1" strike="noStrike" baseline="30000">
                <a:solidFill>
                  <a:srgbClr val="000000"/>
                </a:solidFill>
                <a:latin typeface="Times New Roman"/>
              </a:rPr>
              <a:t>13</a:t>
            </a:r>
            <a:r>
              <a:rPr b="0" lang="fr-FR" sz="2400" spc="-1" strike="noStrike">
                <a:solidFill>
                  <a:srgbClr val="000000"/>
                </a:solidFill>
                <a:latin typeface="Times New Roman"/>
              </a:rPr>
              <a:t>Wh par jou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rPr>
              <a:t>Cela représenterait une surface 5000 km</a:t>
            </a:r>
            <a:r>
              <a:rPr b="0" i="1" lang="fr-FR" sz="2000" spc="-1" strike="noStrike" baseline="30000">
                <a:solidFill>
                  <a:srgbClr val="000000"/>
                </a:solidFill>
                <a:latin typeface="Times New Roman"/>
              </a:rPr>
              <a:t>2 </a:t>
            </a:r>
            <a:r>
              <a:rPr b="0" i="1" lang="fr-FR" sz="2000" spc="-1" strike="noStrike">
                <a:solidFill>
                  <a:srgbClr val="000000"/>
                </a:solidFill>
                <a:latin typeface="Times New Roman"/>
              </a:rPr>
              <a:t>soit un carré de 70 km de côté.</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304920" y="3124080"/>
            <a:ext cx="8458200" cy="1524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492120" y="609480"/>
            <a:ext cx="8423280" cy="603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Times New Roman"/>
              </a:rPr>
              <a:t>Mise en œuv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Times New Roman"/>
              </a:rPr>
              <a:t>Au niveau des particuliers</a:t>
            </a:r>
            <a:r>
              <a:rPr b="0" lang="fr-FR" sz="2400" spc="-1" strike="noStrike">
                <a:solidFill>
                  <a:srgbClr val="000000"/>
                </a:solidFill>
                <a:latin typeface="Times New Roman"/>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hacun peut installer dans son jardin ou sur son toit une surface réfléchissante de 1 m</a:t>
            </a:r>
            <a:r>
              <a:rPr b="0" lang="fr-FR" sz="2400" spc="-1" strike="noStrike" baseline="30000">
                <a:solidFill>
                  <a:srgbClr val="000000"/>
                </a:solidFill>
                <a:latin typeface="Times New Roman"/>
              </a:rPr>
              <a:t>2</a:t>
            </a:r>
            <a:r>
              <a:rPr b="0" lang="fr-FR" sz="2400" spc="-1" strike="noStrike">
                <a:solidFill>
                  <a:srgbClr val="000000"/>
                </a:solidFill>
                <a:latin typeface="Times New Roman"/>
              </a:rPr>
              <a:t> par membre du foyer.</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oit pour une famille de 5 personnes un rejet net de 10 kWh/jour ce qui représente presque </a:t>
            </a:r>
            <a:r>
              <a:rPr b="1" lang="fr-FR" sz="2400" spc="-1" strike="noStrike">
                <a:solidFill>
                  <a:srgbClr val="000000"/>
                </a:solidFill>
                <a:latin typeface="Times New Roman"/>
              </a:rPr>
              <a:t>le tiers</a:t>
            </a:r>
            <a:r>
              <a:rPr b="0" lang="fr-FR" sz="2400" spc="-1" strike="noStrike">
                <a:solidFill>
                  <a:srgbClr val="000000"/>
                </a:solidFill>
                <a:latin typeface="Times New Roman"/>
              </a:rPr>
              <a:t> de sa consommation électrique moyenne.</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Times New Roman"/>
              </a:rPr>
              <a:t>Au niveau des états</a:t>
            </a:r>
            <a:r>
              <a:rPr b="0" lang="fr-FR" sz="2400" spc="-1" strike="noStrike">
                <a:solidFill>
                  <a:srgbClr val="000000"/>
                </a:solidFill>
                <a:latin typeface="Times New Roman"/>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On peut imaginer des zones plus larges (eg plusieurs hectare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On privilégie les zones désertiques très ensoleillées et peu peuplée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Wingdings"/>
                <a:ea typeface="Wingdings"/>
              </a:rPr>
              <a:t></a:t>
            </a:r>
            <a:r>
              <a:rPr b="0" lang="fr-FR" sz="1800" spc="-1" strike="noStrike">
                <a:solidFill>
                  <a:srgbClr val="000000"/>
                </a:solidFill>
                <a:latin typeface="Times New Roman"/>
              </a:rPr>
              <a:t> </a:t>
            </a:r>
            <a:r>
              <a:rPr b="0" lang="fr-FR" sz="1800" spc="-1" strike="noStrike">
                <a:solidFill>
                  <a:srgbClr val="000000"/>
                </a:solidFill>
                <a:latin typeface="Times New Roman"/>
              </a:rPr>
              <a:t>Les pays développés loueraient des km2 aux pays du sud ayant des déserts et contribueraient ainsi à réparer ce à quoi qu’il ont largement contribué</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04920" y="380880"/>
            <a:ext cx="8610480" cy="6464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Autres pistes de « réflexio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ndre le toit des voitures réfléchissant. Il y aura moins besoin de climatisation.</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joindre à tout panneau solaire la surface équivalente en miroir. En effet la simple pose d’un panneau solaire induit une captation supplémentaire d’énergie qu’il convient de compenser.</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ienter les panneaux vers le soleil.</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 raisonnement obtenu avec une surface de type miroir reste valable avec un gain moindre pour des surfaces blanches. Cela est peut être plus aisé à mettre en œuvre dans un premier temps.</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indre les toits des maisons et bâtiments en blanc. Moins besoin également de climatisation.</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indre les routes en blanc (si pas d’éblouissement)</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indre les parkings, pistes d’atterrissage en blanc.</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DEFI =</a:t>
            </a:r>
            <a:r>
              <a:rPr b="0" lang="en-US" sz="2400" spc="-1" strike="noStrike">
                <a:solidFill>
                  <a:srgbClr val="000000"/>
                </a:solidFill>
                <a:latin typeface="Times New Roman"/>
              </a:rPr>
              <a:t> </a:t>
            </a:r>
            <a:r>
              <a:rPr b="0" lang="en-US" sz="2400" spc="-1" strike="noStrike">
                <a:solidFill>
                  <a:srgbClr val="ff3300"/>
                </a:solidFill>
                <a:latin typeface="Times New Roman"/>
              </a:rPr>
              <a:t>Trouver des peintures neutres au niveau environnemen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rot="5400000">
            <a:off x="6629040" y="3504960"/>
            <a:ext cx="304560" cy="396252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492120" y="609480"/>
            <a:ext cx="84232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Comment mesurer l’efficacité du dispositif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 s’agit ici de mesurer la variation de flux (W/m2) renvoyé dans l’espace avant et après la mise en place du dispositif sur un site limité.</a:t>
            </a:r>
            <a:endParaRPr b="0" lang="en-US" sz="2400" spc="-1" strike="noStrike">
              <a:solidFill>
                <a:srgbClr val="000000"/>
              </a:solidFill>
              <a:latin typeface="Times New Roman"/>
            </a:endParaRPr>
          </a:p>
        </p:txBody>
      </p:sp>
      <p:sp>
        <p:nvSpPr>
          <p:cNvPr id="57" name=""/>
          <p:cNvSpPr/>
          <p:nvPr/>
        </p:nvSpPr>
        <p:spPr>
          <a:xfrm rot="5400000">
            <a:off x="2285640" y="3504960"/>
            <a:ext cx="304560" cy="396252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533520" y="3505320"/>
            <a:ext cx="609480" cy="6094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6129360" y="5302080"/>
            <a:ext cx="38088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0" name=""/>
          <p:cNvSpPr/>
          <p:nvPr/>
        </p:nvSpPr>
        <p:spPr>
          <a:xfrm>
            <a:off x="990720" y="4038480"/>
            <a:ext cx="990360" cy="12956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1981080" y="3962520"/>
            <a:ext cx="1219320" cy="137160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4876920" y="3505320"/>
            <a:ext cx="609480" cy="6094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334120" y="4038480"/>
            <a:ext cx="990360" cy="12956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6324480" y="3962520"/>
            <a:ext cx="1219320" cy="1371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rot="2089800">
            <a:off x="2742840" y="4114800"/>
            <a:ext cx="53352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rot="2089800">
            <a:off x="7009920" y="4191120"/>
            <a:ext cx="53352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a:off x="228600" y="4724280"/>
            <a:ext cx="4339440" cy="609480"/>
          </a:xfrm>
          <a:custGeom>
            <a:avLst/>
            <a:gdLst/>
            <a:ahLst/>
            <a:rect l="l" t="t" r="r" b="b"/>
            <a:pathLst>
              <a:path stroke="0" w="21600" h="21600">
                <a:moveTo>
                  <a:pt x="364" y="8021"/>
                </a:moveTo>
                <a:arcTo wR="10800" hR="10800" stAng="-9905508" swAng="9905508"/>
                <a:lnTo>
                  <a:pt x="10800" y="10800"/>
                </a:lnTo>
                <a:close/>
              </a:path>
              <a:path fill="none" w="21600" h="21600">
                <a:moveTo>
                  <a:pt x="364" y="8021"/>
                </a:moveTo>
                <a:arcTo wR="10800" hR="10800" stAng="-9905508" swAng="9905508"/>
              </a:path>
            </a:pathLst>
          </a:cu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a:off x="4647600" y="4724280"/>
            <a:ext cx="4262040" cy="609480"/>
          </a:xfrm>
          <a:custGeom>
            <a:avLst/>
            <a:gdLst/>
            <a:ahLst/>
            <a:rect l="l" t="t" r="r" b="b"/>
            <a:pathLst>
              <a:path stroke="0" w="21600" h="21600">
                <a:moveTo>
                  <a:pt x="364" y="8021"/>
                </a:moveTo>
                <a:arcTo wR="10800" hR="10800" stAng="-9905508" swAng="9905508"/>
                <a:lnTo>
                  <a:pt x="10800" y="10800"/>
                </a:lnTo>
                <a:close/>
              </a:path>
              <a:path fill="none" w="21600" h="21600">
                <a:moveTo>
                  <a:pt x="364" y="8021"/>
                </a:moveTo>
                <a:arcTo wR="10800" hR="10800" stAng="-9905508" swAng="9905508"/>
              </a:path>
            </a:pathLst>
          </a:cu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232080" y="3886200"/>
            <a:ext cx="784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Φ</a:t>
            </a:r>
            <a:r>
              <a:rPr b="0" lang="fr-FR" sz="2400" spc="-1" strike="noStrike" baseline="-25000">
                <a:solidFill>
                  <a:srgbClr val="000000"/>
                </a:solidFill>
                <a:latin typeface="Times New Roman"/>
                <a:ea typeface="Times New Roman"/>
              </a:rPr>
              <a:t>avant</a:t>
            </a:r>
            <a:endParaRPr b="0" lang="en-US" sz="2400" spc="-1" strike="noStrike">
              <a:solidFill>
                <a:srgbClr val="000000"/>
              </a:solidFill>
              <a:latin typeface="Times New Roman"/>
            </a:endParaRPr>
          </a:p>
        </p:txBody>
      </p:sp>
      <p:sp>
        <p:nvSpPr>
          <p:cNvPr id="70" name=""/>
          <p:cNvSpPr/>
          <p:nvPr/>
        </p:nvSpPr>
        <p:spPr>
          <a:xfrm>
            <a:off x="7498080" y="3962520"/>
            <a:ext cx="775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Φ</a:t>
            </a:r>
            <a:r>
              <a:rPr b="0" lang="fr-FR" sz="2400" spc="-1" strike="noStrike" baseline="-25000">
                <a:solidFill>
                  <a:srgbClr val="000000"/>
                </a:solidFill>
                <a:latin typeface="Times New Roman"/>
                <a:ea typeface="Times New Roman"/>
              </a:rPr>
              <a:t>aprè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9T09:17:49Z</dcterms:created>
  <dc:creator>girardja</dc:creator>
  <dc:description/>
  <dc:language>en-US</dc:language>
  <cp:lastModifiedBy>JG</cp:lastModifiedBy>
  <dcterms:modified xsi:type="dcterms:W3CDTF">2007-01-16T21:08:22Z</dcterms:modified>
  <cp:revision>41</cp:revision>
  <dc:subject/>
  <dc:title>Présentation PowerPoint</dc:title>
</cp:coreProperties>
</file>