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99A-6962-4A8E-AD57-96DF3477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F687-D459-4FCB-A3E5-11BB480E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A918-80C0-4433-94AF-3F0D3EB4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D44-4086-4154-BAFE-9FB4B238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4EF4-93A9-44B8-BBF8-B404EFDE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DC5-D992-4FF0-A7E3-858B9788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93F0-166A-4533-906D-1E1BACA4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3D9D-0366-48A7-A7AB-986B0EC0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1DDF-832A-4956-A82C-3AF83D6C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17D-95B5-4174-BC36-36209F42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82D5-B528-4DBC-BEBC-C139CADB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3D6C-47A2-4BCA-90F0-507D0691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C652-FC66-439D-8044-133669291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06360" y="3581280"/>
            <a:ext cx="7948800" cy="2212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469800" y="6095880"/>
            <a:ext cx="76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g. 1   Gantt chart of FJSP without maintenance activit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1295280" y="228600"/>
            <a:ext cx="6934320" cy="30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ZoneTexte 1"/>
          <p:cNvSpPr/>
          <p:nvPr/>
        </p:nvSpPr>
        <p:spPr>
          <a:xfrm>
            <a:off x="4762440" y="6095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ésultat final : Gan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488960" y="233280"/>
            <a:ext cx="11547360" cy="60152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662040" y="6372360"/>
            <a:ext cx="76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g. 4   The CDR-PopGen algorithm for initial population generation in LEG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hmed</dc:creator>
  <dc:description/>
  <dc:language>en-US</dc:language>
  <cp:lastModifiedBy>ahmed</cp:lastModifiedBy>
  <dcterms:modified xsi:type="dcterms:W3CDTF">2013-11-27T14:46:1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