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3B6-8AA7-4125-9BBF-6A696C39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626-2BB7-4162-8A40-880B25F2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E2E-3CBB-4759-B361-8B6A26BC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D9D-5DDB-47BA-ADFA-1AD11616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F38-4132-4A0A-9192-C7FD05C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D29-34D2-4118-A8D8-3955EE36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01E-DB98-46C2-8516-9392FBF3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DA1-CCCE-4C3B-91F3-AC6A397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C37-5879-4729-8132-1F372AB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B2E-496B-45AF-AA6D-6294A6FB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B474-5FA4-4F48-96E8-0B3A132B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D7E-1B52-4C99-96B5-6F2CE4E6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AD6E-E98F-4D7A-BF6B-186DE610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06360" y="3581280"/>
            <a:ext cx="7948800" cy="2212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69800" y="609588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   Gantt chart of FJSP without maintenance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6934320" cy="309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ZoneTexte 1"/>
          <p:cNvSpPr/>
          <p:nvPr/>
        </p:nvSpPr>
        <p:spPr>
          <a:xfrm>
            <a:off x="476244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ésultat final : Gan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488960" y="233280"/>
            <a:ext cx="11547360" cy="6015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62040" y="6372360"/>
            <a:ext cx="76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4   The CDR-PopGen algorithm for initial population generation in LEG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hmed</dc:creator>
  <dc:description/>
  <dc:language>en-US</dc:language>
  <cp:lastModifiedBy>ahmed</cp:lastModifiedBy>
  <dcterms:modified xsi:type="dcterms:W3CDTF">2013-11-27T14:46:1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